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B486-EC68-4537-8F28-96D600930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A549-3573-4034-9C05-9A1449113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0FFD-43B1-4B8E-BF25-6BA480698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F507-7C79-42FD-A2ED-8A894F95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1B79-AACA-47B2-AF02-6E8042092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7F38-178E-4186-BCF2-FDDAA96A9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27F9-0EB3-4CEF-8ECE-8926962A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6998-4839-430E-BC32-D9C43A1E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BBC6-F28C-47AF-A78A-63E8910B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7DAD-A3E2-4E91-8CB8-41E5B919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07D0-9798-414B-9A6C-2B0A6DAE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8B18-B133-4203-88C4-63A41CC3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12CF-BD29-428E-A23C-DB671663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707A-BD49-4012-8048-DC04AE0A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F27C-14B6-43DA-8789-D49F90982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2.jpeg"/><Relationship Id="rId9" Type="http://schemas.openxmlformats.org/officeDocument/2006/relationships/image" Target="../media/image1.jpeg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rittany Gre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Brittany Gre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2860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Brittany Grev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5146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5146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Brittany Grev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7432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Brittany Grev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7432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29718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1981080" y="16002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29718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2004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3341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304920" y="51055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To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2670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76320" y="3200400"/>
            <a:ext cx="175248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i llamo es brittany. Yo vivo en New York City.  Tengo catorce años. Yo tengo uno hermana. Yo amo gimnásticas y música. Yo tengo cabello rojo y ojos ver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1066680" y="51055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tr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0" y="624852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raldin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294560" y="60958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ann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3124080" y="4038480"/>
            <a:ext cx="502920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43434"/>
                </a:solidFill>
                <a:latin typeface="Apple Symbols"/>
                <a:ea typeface="Apple Symbols"/>
              </a:rPr>
              <a:t>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43434"/>
                </a:solidFill>
                <a:latin typeface="Apple Symbols"/>
                <a:ea typeface="Apple Symbols"/>
              </a:rPr>
              <a:t>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43434"/>
                </a:solidFill>
                <a:latin typeface="Apple Symbols"/>
                <a:ea typeface="Apple Symbols"/>
              </a:rPr>
              <a:t></a:t>
            </a:r>
            <a:r>
              <a:rPr b="0" lang="es-ES_tradnl" sz="1200" spc="-1" strike="noStrike">
                <a:solidFill>
                  <a:srgbClr val="000000"/>
                </a:solidFill>
                <a:latin typeface="Apple Symbols"/>
                <a:ea typeface="Apple Symbols"/>
              </a:rPr>
              <a:t>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3124080" y="335268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oy loco ahora. Estoy enfermo porque mi hermana                           Ton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. Hoy es tres de Diciembre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3124080" y="2514600"/>
            <a:ext cx="388620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toy muy cansada. ¿Puedes venir mis casa mañana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?                Patrick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entario: 1 hour ago.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Hoy es tres de Diciembre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3124080" y="487692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Hanna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3124080" y="548640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Gerald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2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3124080" y="6324480"/>
            <a:ext cx="403884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Stephan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: Comentario 5 sceonds ago            Octubre 22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2362320" y="1905120"/>
            <a:ext cx="358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tardes! ¿Cómo están mis amigos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>
            <a:off x="610920" y="6095880"/>
            <a:ext cx="74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han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9" descr="111"/>
          <p:cNvPicPr/>
          <p:nvPr/>
        </p:nvPicPr>
        <p:blipFill>
          <a:blip r:embed="rId1"/>
          <a:stretch/>
        </p:blipFill>
        <p:spPr>
          <a:xfrm>
            <a:off x="1981080" y="2590920"/>
            <a:ext cx="838440" cy="628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0" descr="007"/>
          <p:cNvPicPr/>
          <p:nvPr/>
        </p:nvPicPr>
        <p:blipFill>
          <a:blip r:embed="rId2"/>
          <a:stretch/>
        </p:blipFill>
        <p:spPr>
          <a:xfrm>
            <a:off x="2133720" y="3276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1" descr="956"/>
          <p:cNvPicPr/>
          <p:nvPr/>
        </p:nvPicPr>
        <p:blipFill>
          <a:blip r:embed="rId3"/>
          <a:stretch/>
        </p:blipFill>
        <p:spPr>
          <a:xfrm>
            <a:off x="2286000" y="403848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2" descr="900"/>
          <p:cNvPicPr/>
          <p:nvPr/>
        </p:nvPicPr>
        <p:blipFill>
          <a:blip r:embed="rId4"/>
          <a:stretch/>
        </p:blipFill>
        <p:spPr>
          <a:xfrm>
            <a:off x="457200" y="380880"/>
            <a:ext cx="743040" cy="990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3" descr="387"/>
          <p:cNvPicPr/>
          <p:nvPr/>
        </p:nvPicPr>
        <p:blipFill>
          <a:blip r:embed="rId5"/>
          <a:stretch/>
        </p:blipFill>
        <p:spPr>
          <a:xfrm>
            <a:off x="2209680" y="48769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4" descr="843"/>
          <p:cNvPicPr/>
          <p:nvPr/>
        </p:nvPicPr>
        <p:blipFill>
          <a:blip r:embed="rId6"/>
          <a:stretch/>
        </p:blipFill>
        <p:spPr>
          <a:xfrm>
            <a:off x="2362320" y="556272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5" descr="945"/>
          <p:cNvPicPr/>
          <p:nvPr/>
        </p:nvPicPr>
        <p:blipFill>
          <a:blip r:embed="rId7"/>
          <a:stretch/>
        </p:blipFill>
        <p:spPr>
          <a:xfrm>
            <a:off x="2286000" y="6248520"/>
            <a:ext cx="539640" cy="539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6" descr="007"/>
          <p:cNvPicPr/>
          <p:nvPr/>
        </p:nvPicPr>
        <p:blipFill>
          <a:blip r:embed="rId8"/>
          <a:stretch/>
        </p:blipFill>
        <p:spPr>
          <a:xfrm>
            <a:off x="228600" y="4572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7" descr="111"/>
          <p:cNvPicPr/>
          <p:nvPr/>
        </p:nvPicPr>
        <p:blipFill>
          <a:blip r:embed="rId9"/>
          <a:stretch/>
        </p:blipFill>
        <p:spPr>
          <a:xfrm>
            <a:off x="990720" y="457200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8" descr="843"/>
          <p:cNvPicPr/>
          <p:nvPr/>
        </p:nvPicPr>
        <p:blipFill>
          <a:blip r:embed="rId10"/>
          <a:stretch/>
        </p:blipFill>
        <p:spPr>
          <a:xfrm>
            <a:off x="76320" y="5486400"/>
            <a:ext cx="571320" cy="762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9" descr="945"/>
          <p:cNvPicPr/>
          <p:nvPr/>
        </p:nvPicPr>
        <p:blipFill>
          <a:blip r:embed="rId11"/>
          <a:stretch/>
        </p:blipFill>
        <p:spPr>
          <a:xfrm>
            <a:off x="685800" y="5562720"/>
            <a:ext cx="615960" cy="609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0" descr="956"/>
          <p:cNvPicPr/>
          <p:nvPr/>
        </p:nvPicPr>
        <p:blipFill>
          <a:blip r:embed="rId12"/>
          <a:stretch/>
        </p:blipFill>
        <p:spPr>
          <a:xfrm>
            <a:off x="1371600" y="5486400"/>
            <a:ext cx="5716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4T18:27:28Z</dcterms:modified>
  <cp:revision>109</cp:revision>
  <dc:subject/>
  <dc:title>Profile</dc:title>
</cp:coreProperties>
</file>